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75F-5DD8-4231-973B-3935ED2B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6A6-DAE7-4DD7-91DE-E10B5624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907-5C7E-42BC-B2A4-BBE97FA1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5D4-9E31-4EA6-829B-64FD9D50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E05-3EEC-4836-93B5-5F7DB544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261-D3EC-41E8-8459-E55F8863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F5D-A755-423C-BB38-E6FD1B7B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D79-5F60-4D23-A1A3-8BBD35B4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EEE-9E47-4F7F-9489-53A200A7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242-5936-477C-B326-740D3516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2DB-3174-4A24-9B74-94873A35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25F-9B9E-404A-9A38-30344493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9686-64E2-4821-96F9-C7BEDE9D5D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63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571680" y="1571760"/>
            <a:ext cx="742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google.ru/imghp?hl=ru&amp;tab=wi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yandex.ru/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ttp://rebus.detsky-mir.com/2871/rebusy_po_matematike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znajka.net/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www.prozagadki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ttp://images.yandex.ru/yands</a:t>
            </a:r>
            <a:r>
              <a:rPr b="1" lang="en-US" sz="1600" spc="-1" strike="noStrike">
                <a:solidFill>
                  <a:srgbClr val="3333ff"/>
                </a:solidFill>
                <a:latin typeface="Calibri"/>
              </a:rPr>
              <a:t>earch?e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d=1&amp;text=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етские  ф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3643200"/>
            <a:ext cx="650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Автор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Картошкина Наталия Ю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ОУ ЦО № 656 им. А. 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5786280"/>
            <a:ext cx="700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195560"/>
            <a:ext cx="39002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27160"/>
            <a:ext cx="357840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50660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1000"/>
            <a:ext cx="409104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0520"/>
            <a:ext cx="4284360" cy="2048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27440"/>
            <a:ext cx="41277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27160"/>
            <a:ext cx="4730760" cy="20494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2920"/>
            <a:ext cx="498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Ерук</cp:lastModifiedBy>
  <dcterms:modified xsi:type="dcterms:W3CDTF">2005-01-01T18:29:25Z</dcterms:modified>
  <cp:revision>59</cp:revision>
  <dc:subject/>
  <dc:title>Слайд 1</dc:title>
</cp:coreProperties>
</file>